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547E-EA2D-4461-AB26-130D4E1F1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75877-419B-49B4-86FF-681B1F51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CBED-2BA0-4F85-9849-E97265DFE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7331-8A7E-4B75-A24C-9D3FF8B6E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1BAC8-5F0C-455D-8F00-6DACEB7A1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116E-2FEE-4476-BDC0-AE3E97D1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BB62D-A9CE-4955-9D20-E7E81F320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5F33-84C9-4055-A478-D827C4A39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C4CE4-7588-427C-95EB-478F7B6B5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BF2B8-374C-4CF3-80ED-AC0B5C5E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F8EF-7DD4-4E17-A421-320E4D28C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A8951-BB60-4DCF-855E-42D99F07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4171A-1EFA-4BB6-97D4-7C0C26B8C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F335-8EF4-4669-9D4A-48148C7194AD}" type="datetime3">
              <a:rPr b="0" lang="en-US" sz="1400" spc="-1" strike="noStrike">
                <a:solidFill>
                  <a:srgbClr val="ffffff"/>
                </a:solidFill>
                <a:latin typeface="Times New Roman"/>
              </a:rPr>
              <a:t>July 29,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33F9-8222-4EEF-95FA-244E3BD025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6C2071-6168-4520-BBEB-AA190872E9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9932FFE-5723-4C5B-AD25-0689B0362F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F0936E4-AA03-42D1-9E36-40C83F854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0A8258E-A22B-4AAA-B7BE-58DC16DAE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7BF392-CBC0-4637-B9F2-D87598AE16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565976-44ED-44F0-A3F2-AD4E6AB23E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70708D2-0F78-45FB-9A38-1FB545F697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0117CE-2AA4-4870-BD3C-CF2B82C0EB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390E11-D51E-4D84-8A24-179BFEA78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18A162-BF78-4927-A7CC-F7A6DB076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A29A09-590B-4223-A040-4B53084747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6532AE-0598-4044-BAA3-CCCA5FE118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421756A-9785-4751-990F-066C32AA93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890FED-4D71-481C-95BD-3D080E691D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