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tif" ContentType="image/tif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D2D74-32C8-4139-B283-CB4E427CB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2619A-E39F-40CB-8CA9-A5207A7B4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252D6-8E00-4506-8174-04BEEC4B0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53302-FBC2-488C-8AAB-ACD5AEF75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F8B9F-BF46-453E-98BB-11DB3D5A9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33418-B6BB-4A5E-AEDF-48CDA3E70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46D6E-70BB-4D35-A28F-35EAFDF55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37A68-A5E7-49B0-AC12-8D2F10A44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E55D5-4827-4B8F-8B9A-0E094F579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7381C-385C-416F-8592-E3F610740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98026-0A1A-45CD-BC4D-EB282DD8C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ACE96-A987-4EFB-85EA-DF7753BEC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8A080-16FF-4A64-8C08-285AC31612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t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"/>
          <p:cNvSpPr/>
          <p:nvPr/>
        </p:nvSpPr>
        <p:spPr>
          <a:xfrm>
            <a:off x="4654440" y="0"/>
            <a:ext cx="7537680" cy="6858000"/>
          </a:xfrm>
          <a:prstGeom prst="rect">
            <a:avLst/>
          </a:prstGeom>
          <a:solidFill>
            <a:srgbClr val="4d2d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89400" y="1306080"/>
            <a:ext cx="5478480" cy="266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 Light"/>
              </a:rPr>
              <a:t>Apache Sling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481040" y="3083040"/>
            <a:ext cx="1649520" cy="6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22T15:05:45Z</dcterms:created>
  <dc:creator>Microsoft Office User</dc:creator>
  <dc:description/>
  <dc:language>en-US</dc:language>
  <cp:lastModifiedBy>Microsoft Office User</cp:lastModifiedBy>
  <dcterms:modified xsi:type="dcterms:W3CDTF">2019-05-22T15:06:37Z</dcterms:modified>
  <cp:revision>1</cp:revision>
  <dc:subject/>
  <dc:title>Apache Sling</dc:title>
</cp:coreProperties>
</file>